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0AD-7F92-438F-BC70-49308C33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295-4839-4FF4-A1DE-846361D2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1F8-786D-4C35-AECE-990F0888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E4C-D6D8-4567-A5AF-7A2C085D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B6E-AB2F-45A3-9355-78E809D5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CF5-9A7C-47E7-A82F-D948AFC5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EA0B-DD05-4668-B388-86BE4A79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205-88F2-4177-A6FE-A897D8FB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7F8-C963-4474-8FD3-8B2B2F31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EFF-414E-4A59-AF15-01750BF4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BD4-931D-45AC-A1F7-8C1F6A89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C16-B620-4D06-B7C3-A6CCA2A9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E8BA-11E8-4872-B288-675CA6314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monopoly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0800000">
            <a:off x="7313760" y="5851080"/>
            <a:ext cx="183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rint MT Shadow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rint MT Shadow"/>
              </a:rPr>
              <a:t>Tuesday, April 27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rint MT Shadow"/>
              </a:rPr>
              <a:t>Period: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380880"/>
            <a:ext cx="82296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Monopo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9343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6172200"/>
            <a:ext cx="586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instriped H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/7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Monopoly game"/>
          <p:cNvPicPr/>
          <p:nvPr/>
        </p:nvPicPr>
        <p:blipFill>
          <a:blip r:embed="rId2"/>
          <a:stretch/>
        </p:blipFill>
        <p:spPr>
          <a:xfrm>
            <a:off x="304920" y="0"/>
            <a:ext cx="8610480" cy="3200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586728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rles Darr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y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2010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monopoly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27672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picture of the Monopoly symbol which is usually printed on the box of the board game. He is wearing an older tuxedo and an older top hat with a cane because this board game was made in 193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</a:rPr>
              <a:t>Monopoly is the 1# selling board game of all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</a:rPr>
              <a:t>Monopoly was created in 19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</a:rPr>
              <a:t>It is a board game based off of taxes and b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</a:rPr>
              <a:t>The game pieces are modeled into the shape of common household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</a:rPr>
              <a:t>Today, Monopoly has been played by almost half a billion people worldwi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66680" y="228600"/>
            <a:ext cx="6705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4e3e8"/>
                    </a:gs>
                    <a:gs pos="50000">
                      <a:srgbClr val="ff0000"/>
                    </a:gs>
                    <a:gs pos="100000">
                      <a:srgbClr val="24e3e8"/>
                    </a:gs>
                  </a:gsLst>
                  <a:lin ang="5400000"/>
                </a:gradFill>
                <a:latin typeface="Arial Black"/>
              </a:rPr>
              <a:t>Invention: Monopoly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4e3e8"/>
                  </a:gs>
                  <a:gs pos="50000">
                    <a:srgbClr val="ff0000"/>
                  </a:gs>
                  <a:gs pos="100000">
                    <a:srgbClr val="24e3e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rint MT Shadow"/>
              </a:rPr>
              <a:t>Charles took the idea of Monopoly from another person, that game was called “The Landlord’s Ga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rint MT Shadow"/>
              </a:rPr>
              <a:t>Charles retired as a millionaire after creating Monop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rint MT Shadow"/>
              </a:rPr>
              <a:t>Charles ended up being partners with “Parkers Brothers” (a company) to make Monopoly a huge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rint MT Shadow"/>
              </a:rPr>
              <a:t>Charles at first sold each board game for four dollars ea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rint MT Shadow"/>
              </a:rPr>
              <a:t>Charles game (Monopoly) was so good that stores in nearby Philadelphia were demanding for copies of Monopo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0"/>
            <a:ext cx="7467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c10ad"/>
                    </a:gs>
                  </a:gsLst>
                  <a:lin ang="5400000"/>
                </a:gradFill>
                <a:latin typeface="Arial Black"/>
              </a:rPr>
              <a:t>Inventor: Charles Darr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c10ad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38:30Z</dcterms:created>
  <dc:creator>install</dc:creator>
  <dc:description/>
  <dc:language>en-US</dc:language>
  <cp:lastModifiedBy>install</cp:lastModifiedBy>
  <dcterms:modified xsi:type="dcterms:W3CDTF">2010-05-12T17:35:06Z</dcterms:modified>
  <cp:revision>7</cp:revision>
  <dc:subject/>
  <dc:title>Slide 1</dc:title>
</cp:coreProperties>
</file>